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4911-01A1-4B41-AE60-936E49C02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B53B-906E-48F5-BCFC-A7063872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CF1D-53E6-4D80-8299-C4D729702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E0BF-E23D-4D79-97B5-912CB4273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F0F9-AFAD-49BA-B59C-346AF1A79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4461-674B-457A-BBF3-5C51E165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3CEE-4253-450C-A78C-59631582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6AF6-F879-44F4-9FC2-6B8E3701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3594-85BF-4AA2-B709-DEDAF89D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7990-71E4-4EB4-99EB-956A8605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BAA0-8B1D-444E-8260-A886AE71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D7B0-A62E-479A-8DA6-59B9ACBA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933F-AB5B-4752-ABC8-4063C830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F815-E1C3-49E4-82B2-5C409ED3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F991-5426-442F-8457-5B296793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8F0B-2C0D-4431-94C8-99AE7BAEA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19E9-C471-416C-8510-0FC6F0746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CF22-AD2E-4AC6-8199-8F0A09D4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DACF-EEAC-49B0-ACE4-A08F4DE3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EC15-57F9-4A24-8C83-CBCD07FE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10C9-F04F-43D8-8E46-B4B4D179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A6E2-6B74-47A0-9767-97142661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476F-EF7B-468A-A106-65E2B1C2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3A8B-D3F8-4E1C-8E78-0FB8B539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DAB7-8019-4392-A7B5-5514AF8A74A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9722-AA63-4BC9-AD1F-FEBB35D5B26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Judges 2:6-3:6</a:t>
            </a:r>
            <a:br>
              <a:rPr sz="5400"/>
            </a:b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Overview of the Period of the Judges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-360" y="3733920"/>
            <a:ext cx="5334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3; Lesson 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55-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Days of the Judge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Judges (15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ni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hu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mg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bor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de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imele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5181480" y="1447920"/>
            <a:ext cx="3276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phtha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bz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d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u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5853240"/>
            <a:ext cx="8458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ldron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fifteen word outline” from Judges 1 through 1 Samuel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Remember Recurring Cycle -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16072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osta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 rot="2655600">
            <a:off x="990360" y="2895480"/>
            <a:ext cx="1066680" cy="533520"/>
          </a:xfrm>
          <a:custGeom>
            <a:avLst/>
            <a:gdLst/>
            <a:ahLst/>
            <a:rect l="l" t="t" r="r" b="b"/>
            <a:pathLst>
              <a:path w="1632" h="795">
                <a:moveTo>
                  <a:pt x="0" y="0"/>
                </a:moveTo>
                <a:lnTo>
                  <a:pt x="242" y="238"/>
                </a:lnTo>
                <a:lnTo>
                  <a:pt x="773" y="795"/>
                </a:lnTo>
                <a:lnTo>
                  <a:pt x="1632" y="1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3048120"/>
            <a:ext cx="396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fliction/Op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29000" y="4038480"/>
            <a:ext cx="2362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en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24280" y="5029200"/>
            <a:ext cx="2438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live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19920" y="6095880"/>
            <a:ext cx="1676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2655600">
            <a:off x="2209320" y="3962520"/>
            <a:ext cx="1067040" cy="533160"/>
          </a:xfrm>
          <a:custGeom>
            <a:avLst/>
            <a:gdLst/>
            <a:ahLst/>
            <a:rect l="l" t="t" r="r" b="b"/>
            <a:pathLst>
              <a:path w="1632" h="795">
                <a:moveTo>
                  <a:pt x="0" y="0"/>
                </a:moveTo>
                <a:lnTo>
                  <a:pt x="242" y="238"/>
                </a:lnTo>
                <a:lnTo>
                  <a:pt x="773" y="795"/>
                </a:lnTo>
                <a:lnTo>
                  <a:pt x="1632" y="1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2655600">
            <a:off x="3504960" y="4952880"/>
            <a:ext cx="1066680" cy="533520"/>
          </a:xfrm>
          <a:custGeom>
            <a:avLst/>
            <a:gdLst/>
            <a:ahLst/>
            <a:rect l="l" t="t" r="r" b="b"/>
            <a:pathLst>
              <a:path w="1632" h="795">
                <a:moveTo>
                  <a:pt x="0" y="0"/>
                </a:moveTo>
                <a:lnTo>
                  <a:pt x="242" y="238"/>
                </a:lnTo>
                <a:lnTo>
                  <a:pt x="773" y="795"/>
                </a:lnTo>
                <a:lnTo>
                  <a:pt x="1632" y="1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2655600">
            <a:off x="4800240" y="5943600"/>
            <a:ext cx="1066680" cy="533520"/>
          </a:xfrm>
          <a:custGeom>
            <a:avLst/>
            <a:gdLst/>
            <a:ahLst/>
            <a:rect l="l" t="t" r="r" b="b"/>
            <a:pathLst>
              <a:path w="1632" h="795">
                <a:moveTo>
                  <a:pt x="0" y="0"/>
                </a:moveTo>
                <a:lnTo>
                  <a:pt x="242" y="238"/>
                </a:lnTo>
                <a:lnTo>
                  <a:pt x="773" y="795"/>
                </a:lnTo>
                <a:lnTo>
                  <a:pt x="1632" y="1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2286000"/>
            <a:ext cx="6019920" cy="4114800"/>
          </a:xfrm>
          <a:custGeom>
            <a:avLst/>
            <a:gdLst/>
            <a:ahLst/>
            <a:rect l="l" t="t" r="r" b="b"/>
            <a:pathLst>
              <a:path w="3282" h="2395">
                <a:moveTo>
                  <a:pt x="2647" y="2395"/>
                </a:moveTo>
                <a:lnTo>
                  <a:pt x="3282" y="2395"/>
                </a:lnTo>
                <a:lnTo>
                  <a:pt x="3273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219320"/>
          </a:xfrm>
          <a:prstGeom prst="rect">
            <a:avLst/>
          </a:prstGeom>
          <a:noFill/>
          <a:ln w="38160">
            <a:solidFill>
              <a:srgbClr val="dbbd7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review of next lesson -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1600200"/>
            <a:ext cx="77724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2826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The first judge, Othniel, vs. the king of Mesopota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2826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Ehud vs. the Moabites, Ammonites, and Amaleki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2826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Shamgar vs. the Philist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2826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Deborah vs. the Canaani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0880" y="1219320"/>
            <a:ext cx="4267440" cy="52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reation Sto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Fl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Scattering of the Peo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Patriarc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The Exod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Wand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onquest of Cana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Arial"/>
              </a:rPr>
              <a:t>Judg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The Periods of Bible History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1208160"/>
            <a:ext cx="377208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United King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Divided King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Judah Al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ap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Retu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Years of Sil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Life of Chr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Early Chu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Letters to Christi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0880" y="1219320"/>
            <a:ext cx="4267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reation Sto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Fl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Scattering of the Peo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The Periods of Bible History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5056200"/>
            <a:ext cx="3771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Life of Chr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Early Chu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Letters to Christi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3124080"/>
            <a:ext cx="426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Patriarc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The Exod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Wand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onquest of Cana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57150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Arial"/>
              </a:rPr>
              <a:t>Judg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76920" y="1219320"/>
            <a:ext cx="3771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United King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Divided King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Judah Al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76920" y="3124080"/>
            <a:ext cx="3771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ap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Retu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Years of Sil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1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202" dur="1" fill="hold"/>
                                  <p:tgtEl>
                                    <p:spTgt spid="1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  <p:animClr clrSpc="rgb">
                                <p:cBhvr>
                                  <p:cTn id="203" dur="1" fill="hold"/>
                                  <p:tgtEl>
                                    <p:spTgt spid="1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bbd7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219320"/>
          </a:xfrm>
          <a:prstGeom prst="rect">
            <a:avLst/>
          </a:prstGeom>
          <a:noFill/>
          <a:ln w="38160">
            <a:solidFill>
              <a:srgbClr val="dbbd7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Overview of the Period Judges</a:t>
            </a:r>
            <a:br>
              <a:rPr sz="4000"/>
            </a:br>
            <a:r>
              <a:rPr b="0" lang="en-US" sz="2700" spc="-1" strike="noStrike">
                <a:solidFill>
                  <a:srgbClr val="dbbd71"/>
                </a:solidFill>
                <a:latin typeface="Arial"/>
              </a:rPr>
              <a:t>Judges 2:6 – 3:6</a:t>
            </a:r>
            <a:endParaRPr b="0" lang="en-US" sz="27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17524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644480"/>
            <a:ext cx="807732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us of Israel (2:6-1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rael possessed the l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shua died at 1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nd had peace for a wh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faithful until the elders (older leaders) d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other generation arose that knew not G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219320"/>
          </a:xfrm>
          <a:prstGeom prst="rect">
            <a:avLst/>
          </a:prstGeom>
          <a:noFill/>
          <a:ln w="38160">
            <a:solidFill>
              <a:srgbClr val="dbbd7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Overview of the Period Judges</a:t>
            </a:r>
            <a:br>
              <a:rPr sz="4000"/>
            </a:br>
            <a:r>
              <a:rPr b="0" lang="en-US" sz="2700" spc="-1" strike="noStrike">
                <a:solidFill>
                  <a:srgbClr val="dbbd71"/>
                </a:solidFill>
                <a:latin typeface="Arial"/>
              </a:rPr>
              <a:t>Judges 2:6 – 3:6</a:t>
            </a:r>
            <a:endParaRPr b="0" lang="en-US" sz="27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7524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1828800"/>
            <a:ext cx="8001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postasy (2:11-15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rael “did evil in the sight of the Lord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rved Baal and Ashtaro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oked the Lord to an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delivered them to spoil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sold them to their enem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ere greatly distres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219320"/>
          </a:xfrm>
          <a:prstGeom prst="rect">
            <a:avLst/>
          </a:prstGeom>
          <a:noFill/>
          <a:ln w="38160">
            <a:solidFill>
              <a:srgbClr val="dbbd7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Overview of the Period Judges</a:t>
            </a:r>
            <a:br>
              <a:rPr sz="4000"/>
            </a:br>
            <a:r>
              <a:rPr b="0" lang="en-US" sz="2700" spc="-1" strike="noStrike">
                <a:solidFill>
                  <a:srgbClr val="dbbd71"/>
                </a:solidFill>
                <a:latin typeface="Arial"/>
              </a:rPr>
              <a:t>Judges 2:6 – 3:6</a:t>
            </a:r>
            <a:endParaRPr b="0" lang="en-US" sz="27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1600200"/>
            <a:ext cx="7620120" cy="49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God raised up judges (2:16-2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The term “judg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3920" indent="-3362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Temporary and special deliverers sent by G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3920" indent="-3362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ly had power over portions of Isra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3920" indent="-3362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Not supreme leaders (judges) like Moses and Joshua; not like the judges Moses set up in Ex. 18:13-2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Later, they did administer justice (Judges 4:5; 1 Sam. 7:16) and had a form of limited government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219320"/>
          </a:xfrm>
          <a:prstGeom prst="rect">
            <a:avLst/>
          </a:prstGeom>
          <a:noFill/>
          <a:ln w="38160">
            <a:solidFill>
              <a:srgbClr val="dbbd7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Overview of the Period Judges</a:t>
            </a:r>
            <a:br>
              <a:rPr sz="4000"/>
            </a:br>
            <a:r>
              <a:rPr b="0" lang="en-US" sz="2700" spc="-1" strike="noStrike">
                <a:solidFill>
                  <a:srgbClr val="dbbd71"/>
                </a:solidFill>
                <a:latin typeface="Arial"/>
              </a:rPr>
              <a:t>Judges 2:6 – 3:6</a:t>
            </a:r>
            <a:endParaRPr b="0" lang="en-US" sz="27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1600200"/>
            <a:ext cx="7620120" cy="44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God raised up judges (2:16-2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Their work 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53920" indent="-3362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To secure blessing for God’s peo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3920" indent="-3362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To deliver them out of the hand of those that spoiled (robbed) th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Success conditional 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53920" indent="-3362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Serving God, or serving idol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219320"/>
          </a:xfrm>
          <a:prstGeom prst="rect">
            <a:avLst/>
          </a:prstGeom>
          <a:noFill/>
          <a:ln w="38160">
            <a:solidFill>
              <a:srgbClr val="dbbd7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Overview of the Period Judges</a:t>
            </a:r>
            <a:br>
              <a:rPr sz="4000"/>
            </a:br>
            <a:r>
              <a:rPr b="0" lang="en-US" sz="2700" spc="-1" strike="noStrike">
                <a:solidFill>
                  <a:srgbClr val="dbbd71"/>
                </a:solidFill>
                <a:latin typeface="Arial"/>
              </a:rPr>
              <a:t>Judges 2:6 – 3:6</a:t>
            </a:r>
            <a:endParaRPr b="0" lang="en-US" sz="27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1600200"/>
            <a:ext cx="7772400" cy="54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7680" indent="-5176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The Cycle of Israel (2:16-2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- The people worship the gods of other 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- God allows other nations to oppress Isra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 - The people turn to God for hel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- God raises up a leader to deliver them..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   ... and this leader becomes the Judge or Governor of Israel for several year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 - in peace, until the people strayed from God again... again and again for 13 times..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219320"/>
          </a:xfrm>
          <a:prstGeom prst="rect">
            <a:avLst/>
          </a:prstGeom>
          <a:noFill/>
          <a:ln w="38160">
            <a:solidFill>
              <a:srgbClr val="dbbd7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Overview of the Period Judges</a:t>
            </a:r>
            <a:br>
              <a:rPr sz="4000"/>
            </a:br>
            <a:r>
              <a:rPr b="0" lang="en-US" sz="2700" spc="-1" strike="noStrike">
                <a:solidFill>
                  <a:srgbClr val="dbbd71"/>
                </a:solidFill>
                <a:latin typeface="Arial"/>
              </a:rPr>
              <a:t>Judges 2:6 – 3:6</a:t>
            </a:r>
            <a:endParaRPr b="0" lang="en-US" sz="27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1600200"/>
            <a:ext cx="7772400" cy="45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7680" indent="-5176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Nations left to test Israel (3:1-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2826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younger generation knew not w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2826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eded to be prepared for confli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7680" indent="-5176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r required to purge the land (3:4-6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2826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et, they dwelt among the 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2826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xed their worship with the heath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2826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married with the heathe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1T15:49:04Z</dcterms:created>
  <dc:creator>Don Vines</dc:creator>
  <dc:description/>
  <dc:language>en-US</dc:language>
  <cp:lastModifiedBy>Frank D Vines</cp:lastModifiedBy>
  <dcterms:modified xsi:type="dcterms:W3CDTF">2005-02-02T23:10:41Z</dcterms:modified>
  <cp:revision>41</cp:revision>
  <dc:subject/>
  <dc:title>Joshua 20 - 24 Inheritance for the Levites</dc:title>
</cp:coreProperties>
</file>